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599-37E8-47C3-9D6A-34A4443F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5E5-6E4B-44B5-A1CB-C5B5D43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3477B-FFBE-49ED-A3E3-86B073A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A80FB-B9ED-4C07-B68A-6CD40562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04A61-11F8-4617-BA02-CFD5CA3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0D94-A9D0-4F92-8ECD-F13C90A3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1182B-4140-4D49-9F10-8AC492AC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D0C9D-ED9C-4EA9-8580-C3091E1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69AF-8CCC-4941-9FF0-DE18CE88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ADFCC-562F-4CCD-9F40-E489CD1D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D5550-2EB1-4B7B-BBA6-EEE96151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9F3BA-4F40-4A52-B035-D8C0E195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0FD-7E0C-4C3C-9F19-21171A14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F6D88-349A-44F1-99A6-D46B4AC2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05FD4-A087-4D36-B2B2-BD47E55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676F8-152D-4C78-B005-191A0A6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A645E-6CBD-42C6-AAD5-87803035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34232-37A9-4CD3-9AAF-33E6085E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EBD4B-3636-4204-9FBA-18C14DC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2C49-E737-4E0B-9DC3-58D3CFE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7F481-95C0-44D7-9D7B-8BDC62A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A6036-35EC-415B-A990-A159CD80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B0DAB-B012-4584-B389-78A62764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879-DF9A-4AB2-9DD9-B7B731AC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B2184-C917-4377-98B9-20C2CEA9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DD9FA-7111-46D6-8004-F30B5F23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4DB9D-3E0C-41D0-A5F1-73DFA369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E75B3-F78A-4131-8F74-2DF6CAC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00188-6ECF-41E8-B310-9D27935E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ECCDD-56C0-4262-A0BA-1148826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161AF-4FD4-4C0C-B621-1FB2437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36166-422E-4139-BE89-884184D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6EE7B-9B57-4E14-8B2B-3B053F4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75ADE-D122-410E-B5B8-5B4185CE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6E7-DD84-4BC9-8064-5458A4B8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C47C-0B6B-49A3-A0EE-FD67E7D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64A9-887F-4D8D-9532-DDA0C140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91B1-C8C4-452A-9A35-D46AFCBE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EE54D-D40B-41EF-BB02-D86D14C5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A1410-60C9-41B2-98C2-976D3A9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FE3E6-8963-495D-A857-C6E2C99A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DD97D-C067-44F2-A5EE-D3B54D56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E7162-485E-4F27-BA3E-B9223B5A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E5FCC-F8CF-4CC7-9D7F-37AF3686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7E074-4DAE-4B3B-B43D-2554550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6C6-B86E-4A4C-8ADB-6797113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78A8D-2FBC-40AD-A3D9-4692F54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E8F06-443F-4E08-8BA8-AC0441E2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0D8C6-C4D8-418C-848E-00A99CAA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C78B1-B0B6-40B1-BC2A-44E81822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52F95-6CC2-430D-9616-8564C2D5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BF2A6-4500-4036-8B02-21189605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94506-2BCB-4F85-A455-B12487E8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537CD-E204-4AA4-90AE-2504F256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A04EE-DF7B-40C9-8089-5FFDFBE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CA788-C1BD-45B8-9A7A-33BE46E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CF83-73ED-418F-9EC0-3F787707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440E1-79C5-4D8D-B63A-E30CCED9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2D99D-D535-45EA-9807-5695E70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537C4-671A-4594-8B69-0EC7EA36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5F7D3-731A-46C1-8CFF-7CC58DE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72955-2669-4C07-AE5D-404F81F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CDB45-8CD2-4606-B42C-EB95A1AA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193E4-BEFA-478C-9C71-EE43FA43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3AC8C-1498-48D9-A8FE-9A0CCEB5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03CD4-F312-42CF-956A-996EA8A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5EBA0-952C-4CAE-ADAD-9DA2CDA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82DD-1ED3-4274-9533-094DED1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39BB5-C3B1-412A-8AB1-6A9FF27F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97323-748A-4753-A76B-BA231430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F85FD-5C98-485D-8D41-BE8B9C46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BE56F-DEDC-4761-9406-01277EAE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83E0F-37FF-464F-BD0E-4C7039A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79219-A1C9-4DA4-9CCE-281D876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13F9D-3A99-4C73-A011-087231E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987C4-058A-4F64-9F0C-33068665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40231-D623-43A6-A624-C98CAA04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16F82-D00A-433E-816D-D5F70C9E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BEC-FE24-4199-A71E-CDB86E0A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2EE2B-C053-457E-96B2-2417E2E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B93DB-ED4A-4B4B-9094-4E9E860E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7EBF9-B108-4357-9405-34FEC19A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44E4C-194F-4D46-A007-2F7AA6E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54D98-DDDD-4180-936C-BCED43CE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AC0D9-C4C2-44D2-9561-E26A3F9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AE428-473A-40CF-8F8C-5CD005D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859D2-03C8-4FF2-879F-7141AE5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CA46D-E897-492E-9C8A-A3F12A7D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E237D-7BA8-4CAF-9B4B-1B6B1C12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3804-D990-482A-8BD0-2269441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E80A7-A88A-4B90-B967-FE1927A2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7CC36-ACD6-4CCF-897C-74775909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D5862-89BA-4433-AF88-E8FA8B76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30532-3055-4E6D-825C-7481024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F8D65-9D3B-49D6-935C-C1997F41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D871C-4B88-4B0B-934D-A7BBD464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22F14-F656-4C40-99F5-ECA9F3D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D48A8-3DB6-45A5-8F00-575670D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77B9C-5C68-4C34-9956-14D8A34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4F362-2795-4539-9E7E-62FA587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655-0F95-4A5B-B6B0-2E78F9BD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B27C4-1248-4227-A6F6-913D4A49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7E51D-D48D-4917-A2E5-5B893EE8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41904-0F99-466B-8780-66018949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E948A-43A1-4130-B2DB-5F5F7C8B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26D8C-7A27-4B98-824A-9F16778E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42DB9-41A6-487A-A30A-BFAAE97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2B346-AA53-4895-938A-32F69BC1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18D09-5A96-4BCE-AFC8-AFBBB6D4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08628-6F4A-40F5-9C49-CED5DD70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57F51-3400-4A75-83EA-7F19705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B9F-D292-4584-8C7B-8899018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5913-695C-4BD0-A170-091CEBA1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1B341-D80B-4D01-B7C2-B4EDB2A8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D487A-1311-4B5A-A50C-8465845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FC84A-3B2D-4AC8-AA35-A941DBE9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DFB32-05C4-4996-BF55-C6269797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D00D9-166F-48F8-B2B6-15C3E35C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D709A-AF47-4505-89D9-37C9761B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9B020-474F-4D71-A1CB-F8B028D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5C77B-4F93-4792-9B0E-D1BF592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B0977-9905-4C44-A1B1-6AB05A8B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192A9-69D7-4CD5-9624-52FE4B97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80DC-3095-470B-BAC2-641DFA7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9F8BE-9E8B-4B02-84E6-DA68963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077337-F4E9-41E9-BF01-7CB93935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236FB-385B-49E0-9BAD-1DC22FF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FFAF5-BB7A-484C-88A7-AFC314B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1B08A-71AE-4010-908A-5CE0F7C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2D242-CDD1-4E94-A1B6-15628225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A60E3-A81B-4C9C-B3E4-54A92D43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AAFBC-82AF-41C2-88F9-4D9A343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6DB5F-B9AA-4BEB-9D6E-C84301C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C414C-E202-4F1F-B920-361DE327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60C5-4C4D-48A9-9513-7E9EDC1E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208BD-9A51-4E04-B2C7-9BDE6B8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88E88-D5D8-4B80-AA3C-B0DC840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AC779-A6AF-4F19-8597-F1FE1F46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0E271-287E-4336-8FE8-3C4CC6B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53AFD-1877-46B7-9534-26EF9BF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16D03-D581-4552-A673-33F8E02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571BB-86E0-487B-94B2-5DBE2D0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3F6F5-94CF-41F9-9F1F-3044D2A9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FE52B-2E39-4000-9758-0F0B7EE3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34A70-9F48-49E3-9DBD-4A83B06E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5A1-B2AF-45DF-899F-429B2673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CD828-7608-42ED-ABEF-683FA552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50572-75E9-4F3A-B14F-364829C5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3599F-D102-41B5-B554-1252B60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34E9C-962B-44AD-8FB3-A674746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13A2D-4CF1-4E3E-BA5B-78F806B5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672A5-8780-467E-8D8B-A5C978D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6EBDD-9235-41C3-AA1A-8A92B7C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FC661-A615-4603-844F-A75569E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A5C29-6718-4DD4-9360-3931ED8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9EC3FE-BF15-48AE-80FA-8DD82293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3B88-34E8-43B3-89DF-E759233A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9DB9B1-9D6D-41E2-843C-45A09825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FCA70-236C-4CA1-9A0F-D6DC83B4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6A2AD-4495-48B7-B914-A6BFDD6B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0EF9B-9FE5-41A4-A53C-C616B1D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32D650-FB20-4A8D-B250-BA707FA5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2EFA6-9B64-47F1-96E1-A3EA85FA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3C118-418B-48D5-A9C7-B7AE584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9D394-3FFC-4DC0-9336-A17582F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F05BE-0C62-4F1C-94FC-60E465D9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71440-56FB-4BFE-B5E0-4B5F633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EECC-694F-426D-B88C-7DA23EB3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79239-3B3F-4F11-A505-A8E56D01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D361C8-C048-4708-AE6D-F0FEA901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F1904-9027-4B2C-B1FA-747ECF30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1A9F-1A20-476E-8FC3-78557CC5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2589-A065-4438-AAD6-49AC3F2B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0794-F5EC-4172-AF0E-76B48C9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C0DA-6935-4D17-8384-2A330F13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E87-1CBC-4B1D-93AA-0610DFD2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D45F-E983-4F1E-904A-44F7A74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6FB2-621C-49C8-85ED-EEEFA2F9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B802-A405-4402-AA60-4AE3630F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05BE-D03A-4C91-8ED7-3F3F419C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19F4-988B-4350-89E0-D45165D6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1CE0-A4AC-4B43-A9AD-FE1CEDAB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ED37-4D35-4DE6-8A1A-8AB2945A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DE9D6-D22F-4047-B842-2E49A77B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2F75-C31E-48DB-939A-C70334D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4413C-8BB7-4D10-8DF0-74FBE7EE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2DC-2008-4C37-BA47-7C49E9D3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B0D9-8111-49A6-A88F-17EC64C1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F037-C8D4-4167-BABC-4E2B740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471D-42D4-4700-B086-F7D7F54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BAC2-0D45-45D5-ABE9-96267AA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9B94-8858-4971-A7C4-7E7A6B3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0C85-4405-473C-8146-20DC3D9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5DFD-E5DA-48F4-907D-588B825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CCBA-80EF-43DD-AF7C-D585A9F7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096D-69E7-4967-8373-ADA60477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C2D7-722B-423A-A1D6-D4067734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53A-291C-4D6F-90D2-0E54340C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9FC2E-F4B2-43F0-B606-96357655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542A-C4EA-4596-A8BC-FE1A645A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E2D5-92AF-4D4E-8DD3-722B6FA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9F631-6DB1-4E09-B325-C9AE2D99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A940-2AE3-43CB-8EE5-72E0CDF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8315-52B7-44BB-8370-6A7EE45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4914-5BA9-405C-B755-9AFFEB9D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2F57-9075-418C-83F5-2C086D4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16F9-DE49-4DD8-953F-D8A6120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565E-3D59-4833-B571-4578D5B4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9FE-944E-4A37-8BD2-AD45385C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8EFBD-CEF7-4CE7-91E4-DCC86231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CC65-7505-460B-A36B-4527ABF8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09A0-56F4-4F2F-83B0-F0751D3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C8D56-AFA7-47A8-86F1-75396809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6EED-1CAE-4788-BB5B-AA223F0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963E-8393-4F13-BB62-9262E3DB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F5777-BBF5-484F-AD75-4BC8DEC6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2943-21AB-4124-8B81-3301A9E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6C082-BB9E-4BF4-86CE-6CFCF13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0C60-E51C-41BB-9BDE-2A7D5BD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669-CC07-4A68-A9C6-6527E01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2561-FFE5-4149-9171-25140B2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1265-8E62-464E-A6BD-EDFC2C0A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68527-5D42-4C73-B42A-EC9E5D8D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582C-13B4-454A-B381-41B0CCD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3F65-90A7-4689-8F02-C392748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93636-955D-4DCB-ACCD-B89C33AE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2B58-2C01-44B7-A507-BCFED32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2D75-1B7F-4942-BDEA-06C34B7E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C4A16-27D1-429E-9B3A-038712F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CF802-C0AD-4670-A740-662E4AB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EFF-BEE1-4E41-AAAC-AA65695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0992-A1DE-4933-A617-BB3ADF1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F5487-3BC3-4530-9CF4-52EA138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77D1-C184-4D02-B45F-63B29853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F5F2-6A02-4D51-A144-CAA96431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4C183-50FC-49FE-B16A-1E741E6A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DA7A-982B-47BA-A592-6BB2C2AC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9A0D-8FF5-4BE7-ADD5-4C626D0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029E-E1D0-4111-A165-9367C3F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4FA07-CFA0-47A7-AED4-0C42C019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9EAB-E3BD-4DA3-8427-851872F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162-0850-48CC-B15B-63928BF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535F5-3DBC-479B-9119-F844149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51BE-067E-44B9-9521-0A9C666E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9063D-2247-4CA7-A7B4-27298D4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A7B2D-C76B-4216-BD0D-398D0CE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96AE-FFD5-44BA-9BDD-60117391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8C29-79F8-4D1E-855B-1ECBD746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81354-BE66-450A-9631-AEF7C3F2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B76A1-7CE7-44BD-93DD-A6E1F489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6DAFB-9922-432C-8974-3F7E3C5B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69F9B-0495-46B9-AA4C-7E437FF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4F26-1F1D-4593-96B5-4B4E8CF8F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1AAB-9253-4EAA-83F1-1B8578A3E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0B3-521C-483B-8DD4-FA66C069F9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B0CD-0308-4C17-B094-DE83989AB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CC5-E923-4D41-94DD-A6A84974A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6CB6-F82A-4CDA-B8B6-F7A39F908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7241-1DB5-45F0-99AA-DC2CC864C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BB4F-517D-49D7-81E6-CEE798506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69FF-82DF-4DD1-BD5C-CDF9B2AFD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B5B-8A94-4952-87D5-1D6076F97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8F0F-7781-4EAE-A87B-66B8C40CA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909-8F8D-4C18-BF2B-954146F1F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106-BFC8-46D8-AB0A-1ED7BC9ED8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36A5-1461-4552-9F94-7D37E60F21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2CB2-C830-4FB2-AF68-79CC935195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CB99-A699-492E-AD71-69EF16BC3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A3B1-1386-4344-8280-2252FA1C91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982-9490-4D3D-B187-ACB2A3C15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8C9A-6350-40B3-81B9-C80EDBE64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036-4D50-42ED-B6DD-CE6348923D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0E5C-303F-47C1-BC3A-9677B07F4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3CD0-F7FE-4DBF-A037-71AEE3F675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6B9E-3E85-40E7-91FE-238E25BA1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08D-23E6-47A3-94CD-D17BBD8D6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4704-E07F-4A96-99E8-551474EA2A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CA2C-83F9-4D2B-8592-DF7372EA9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8BA-84FB-499C-93A4-BFF0B4658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DAC-335B-4891-B05B-D24336A73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1697-E200-424B-B206-FA8E924D1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1CEB-C650-4452-B6F8-2BBF3BA89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6FE3-7776-43B6-98E3-7BE74066C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7D3-EC66-4F2F-AEC1-CDE2CB98A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D588-D4ED-4DF0-8FD3-1DCA9DF5C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099C-A6B9-462E-B310-D75113E67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723-45E4-4CF9-AAB2-F09CAFD1BF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F1B-EB35-43A2-92B8-FC592B7DF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938-BD00-4C17-9663-06D58114F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47B1-0E8A-4305-852F-AE6AD98EC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056C-A3AE-4143-B33F-48A8E594F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6847-3432-43E9-B71A-DC851DFBE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100160" y="3014640"/>
            <a:ext cx="6943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33520" y="1571760"/>
            <a:ext cx="8076960" cy="37144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3357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9760" y="885960"/>
            <a:ext cx="8124480" cy="50860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857160" y="928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857160" y="3571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38200" y="1409760"/>
            <a:ext cx="8067600" cy="403848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428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857160" y="4000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8134200" cy="3095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928800" y="3857760"/>
            <a:ext cx="3352680" cy="590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657360" y="4417920"/>
            <a:ext cx="8057880" cy="2048040"/>
          </a:xfrm>
          <a:prstGeom prst="rect">
            <a:avLst/>
          </a:prstGeom>
          <a:ln w="0">
            <a:noFill/>
          </a:ln>
        </p:spPr>
      </p:pic>
      <p:sp>
        <p:nvSpPr>
          <p:cNvPr id="1034" name="矩形 4"/>
          <p:cNvSpPr/>
          <p:nvPr/>
        </p:nvSpPr>
        <p:spPr>
          <a:xfrm>
            <a:off x="6357960" y="1428840"/>
            <a:ext cx="92880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2928960" y="242892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428840" y="392904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7500960" y="49291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"/>
          <p:cNvSpPr/>
          <p:nvPr/>
        </p:nvSpPr>
        <p:spPr>
          <a:xfrm>
            <a:off x="1500120" y="6000840"/>
            <a:ext cx="88920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00040" y="1104840"/>
            <a:ext cx="8143920" cy="46483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5718240" y="1677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6275520" y="27003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3546360" y="3225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4726080" y="4240080"/>
            <a:ext cx="10602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3071880" y="528624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28760" y="777960"/>
            <a:ext cx="8181720" cy="608004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2714760" y="492912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3417840" y="541512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3220920" y="637848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52520" y="957240"/>
            <a:ext cx="8238960" cy="49435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2714760" y="19432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1285920" y="3500280"/>
            <a:ext cx="14288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2525760" y="4037040"/>
            <a:ext cx="1214280" cy="341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1060560" y="4506840"/>
            <a:ext cx="1368360" cy="397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00040" y="1695600"/>
            <a:ext cx="8143920" cy="34668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5594400" y="184320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4643280" y="2857680"/>
            <a:ext cx="1814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368360" y="4414680"/>
            <a:ext cx="10717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3:4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